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dt" idx="73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ftr" idx="7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 type="sldNum" idx="75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F61C-6359-4F26-80F6-573E71948E5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Header Placeholder 3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Date Placeholder 4"/>
          <p:cNvSpPr/>
          <p:nvPr/>
        </p:nvSpPr>
        <p:spPr>
          <a:xfrm>
            <a:off x="39020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9F47-B058-41FD-8D46-53F7B415109E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fld id="{66925814-CCE8-4D9A-BDE0-2F2FEA52E240}" type="datetime10">
              <a:rPr b="0" lang="en-US" sz="1300" spc="-1" strike="noStrike">
                <a:solidFill>
                  <a:srgbClr val="000000"/>
                </a:solidFill>
                <a:latin typeface="Calibri"/>
              </a:rPr>
              <a:t>08:30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ooter Placeholder 5"/>
          <p:cNvSpPr/>
          <p:nvPr/>
        </p:nvSpPr>
        <p:spPr>
          <a:xfrm>
            <a:off x="0" y="9515520"/>
            <a:ext cx="61992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Slide Number Placeholder 6"/>
          <p:cNvSpPr/>
          <p:nvPr/>
        </p:nvSpPr>
        <p:spPr>
          <a:xfrm>
            <a:off x="6199200" y="9515520"/>
            <a:ext cx="6872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FF8D-6752-436D-B689-78CB843DFF7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Номер слайда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FB48-56A0-41F0-9FA8-BAEFBCE24DB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Номер слайда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EFB7-58DF-4AF4-B51A-480053FD6DCD}" type="slidenum">
              <a:rPr b="0" lang="ru-R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6B1A2-4F56-4C97-915D-B1157169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ACC6A-1DE7-41B2-A89D-CB9BD7E1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E29CA-CCB9-435F-98DA-CF00381F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8F478-F9CE-4281-8B76-344BC1D8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15425-9A81-4237-A4DD-8818B2AA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6123B-CC4F-489D-B49F-ECDA4939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E21BC-7C64-4E8A-BBB7-47F7B22E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3BAA-0C6F-41F2-B6DE-2CED463C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77774-7A8D-41F5-902C-8B7E3393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305DA-A5A6-488B-B028-2FE35572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F8583-823C-4DE6-86B7-DCF8F450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9049E-EC06-4456-9D7C-2D952382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1AFCF-2CAA-4E5F-8F06-79E6D886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9B2A9-7561-464D-8F76-75C11A00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E262A-E16A-42FA-B56E-60380A94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9509D-1785-4EF1-A7CE-A3A4EF26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A820-FB8B-4C36-89A1-F3585264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6A5EE-3900-4ADC-84B4-3AE18C70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F334A-0A37-424F-93B5-11ECD4D6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9CBE2-861C-49F7-A35E-A88A35CE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30355-EA87-42F4-B5D7-1A565FCB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77C7C-6EDF-4A11-B7B1-A1F51BFD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FDAD9-DDE4-4E40-84F5-3FC39F6F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59972-9471-4BF5-8FEE-1F15F47F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36829-CE21-46D0-8BC4-08785BA2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2FE96-AC87-44FF-BBD9-FBDDDB2D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5AF6E-4228-427A-BBE7-E1F6E122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DC60B-37A8-4AD6-A292-F5E4643C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B4F67-A1E3-461C-8AEE-296C8B9A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61D3-FBC2-4FD5-808A-FD46016E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82EBE-7AEB-4258-A3AE-270E57C7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40155-77EA-45AF-AC93-B7C6FCEA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338F4-3542-4643-9B60-1BD2E32D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113F4-AD4C-40A4-92D8-D233F37C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2A2B9-0BEB-4751-917E-0BC36C63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E9C76-6768-47F9-B14A-EDBFE4D0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9DBFB-941B-4A20-B77A-37856A22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1118C-6336-49B0-B72B-D0EC1576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21D89-1DFB-444D-ACCA-2B10E1E2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773A5-B9EE-45DA-AA2E-6ECFB3FC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53D2F-C9DB-4A7A-98DC-815BA868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211BE-3F5F-4AF5-A049-2D519DF1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9A2A8-3FE3-4F7C-8CB7-C367BF19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EC3AE-4D4E-44E3-B29B-972026EA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A38B9-A84F-4B5E-88E2-119F57A9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28027-44D6-445F-82D7-35991DCB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B2374-A584-4AE1-A209-2EEB1CEC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D3D56-F309-4000-A0DA-E558B8B6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3F251-4F25-4918-B1BF-E2AF8AA5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ABE59-2BE7-4D5D-B67B-899860AC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747B4-665E-4B6D-908F-DDCF6DBB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9FC44-AA16-4451-99F4-E4FB98E8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C125A-E28E-43FF-91DC-970BAAE0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6179A-30D9-4B7F-B38F-2DDD2EF9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AC3ED-023E-4A93-B9DF-C5DE6027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BFF8A-1CF4-4F4C-AC5B-6A11D7C8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EB475-B269-4DDD-9756-343B2CCC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E0098-8583-48FE-8056-A1528EE6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DDDE3-0C19-4B5F-8553-3FF4E9FB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C62A6-E9E5-4133-879C-A9F13B28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EA5C3-A7FB-4842-85E0-F38FBD30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0D706-CAE4-42C9-B77D-F0D36B16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14460-3591-47A6-ACA1-7DA2D823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7AE93-B98B-4FD5-B455-6104A785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87FC7-A1AE-41F9-AA2F-E4EB4115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866B3-F6E0-49D2-9A31-84EC7B2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8FF23-E6C0-4649-B215-D08D030F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7381E-5090-4174-956E-196D5F31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438C1-A137-40FB-9DBF-C0449CF8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0ADC0-99CE-4500-9210-CB1B9ADE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C8B68-5ACF-4A3E-9358-8B8FB7A1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98415-793B-42B7-8A82-D893A1BA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0719C-A932-4D92-9BA2-FDC98851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9E06B-1DC7-4605-A88A-24B827D1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527AE-FA26-445F-A416-20A4BB01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70E78-2946-4E77-93C9-20AE6D4E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8CCB3-DA86-46F8-966F-41614203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F4DFB-E344-48CD-9EB7-C8AF3D9F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01620-DA88-46B3-A938-ABAAC9FE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CB351-AED1-4FDC-9137-4FAB726F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E44AC-9716-461C-B291-568046AE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3F98E-0380-4C17-A58A-F7F0794C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AF1F3-C0C9-4716-A9C6-5F665353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CA72F-22B5-4F03-BB21-10FCF3BB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38B2C-709D-4178-ADC0-E3F22986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19C3D-0814-4C50-8568-5669BE31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C2F6A-A040-4516-8C70-18CF8892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FF522-0556-4EFA-A59E-BD4217C7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15CB6-DCF5-4A49-AEA0-052B45D0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D4F64-6032-4419-9793-2145D57D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E95B6-3494-4DA0-8AC0-ECB735A5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21879-3C36-4048-962A-0F8B8083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3E03D-7A82-46CB-B674-9E7CB7F9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70019-29AE-4E3B-BC78-B0A15EB6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8B336-1C3A-4ABE-B6BA-5F90086E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92BE2-E39A-4544-9F13-9A494005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50E19-0752-4C8A-AAC8-BDF4354A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94409-AB7A-4C66-96FD-947B08C3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664DB-3A2B-443D-91AA-6BCF3DF4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07E8F-F5C4-4FDC-AE62-8BFCF977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D0049-562D-40DF-AA66-8B6B8E18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FAADF-2C93-44E6-A461-59CFD1F0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D14A4-43B6-4921-ACC2-7AA1B4CE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A7096-2ED2-42AD-B6ED-62D517D0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0A26D-DEF2-4212-A630-218BEED1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FA6E9-5421-4EF4-B469-81140C6E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0B6E4-D80F-427A-8016-942EE5C8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6E910-0346-413A-8D55-A4465D87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C2026-5362-44F1-92E0-1DEC5CED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EFD4C-B60A-42BE-A734-D85A5F8B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2E609-F89A-4710-BFB6-8AF95A6E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C0B08-4F40-4998-A88A-BDE74CBD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7DCEC-FD85-4FED-AA05-5F8736BE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4C15A-94AF-4619-A5F0-3CDF9202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A6E48-7A8D-4DAE-B505-9CA7174F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AF1AC-7D3F-4201-BA73-EDCAF9A7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F59E5-AA25-4710-A7BE-A2873EFB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E2E81-D94F-4419-B91D-88742398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DB2B8-8343-47EB-B21F-87DA4CF2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0162C-AEEA-4C34-B725-CA6171D5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6E6401-099D-4A83-8C90-CA1AB743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BF684-3D55-4854-AC81-41C06C27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FDDBC-DFD3-41FD-9CAF-D21CD2F0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A88AB-2BBA-4B61-9471-758F23FF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62675-5048-4F8C-93EF-C78C0331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2B782-2B4D-43BE-9FC3-B9043C28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C5363-9B37-4C83-AE02-F9984832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10CD1-A01C-43F9-9770-3C15CA6D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7DC7F9-DCEB-42D6-8CB3-D50BE839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9A2F8-F262-4093-BA95-A31D40BF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BA4F6-C614-42FD-B57A-2B3055FA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FB68FB-DD58-49E8-A770-883EB58C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34806-B3B1-4FDC-AB9F-7BEEFAEB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F36AEA-52A9-4137-9C84-20188409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3D8073-EFDD-40B0-AF5E-CFDD5380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A2A078-2ADB-46B1-A6D2-ED3F5D86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57015-7B34-4BFC-BA38-B8180A18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16C47-1F90-4473-8CC6-C8720124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74999-2545-4985-9D0A-59074928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0D6870-51C9-4683-B6EF-DF720EB4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C6755E-09E0-4AED-BA80-DE84C378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93B6B7-91E6-4599-BBAD-FC1AB6DD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B03517-60A9-42EF-82AF-B9BCA415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9537D-1CED-4550-B497-FADDD6A7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DB645-BDB9-4436-B97D-F36D0DD2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344A84-A1DE-441D-9ACF-12B4C26E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B0E16-0C37-44AC-B317-92DFFBE5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EAD84-6E1E-4A3A-A7D1-DA0EA32C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09373-BEE6-4A35-86EB-1F30A5A3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6FAA79-81CF-480B-A363-EBEBC3F0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615-4129-472F-B3F7-235E43AE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6AB53-E5D5-4360-8F4F-0C16310B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520330-36F3-48BB-95F2-07872AA5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0FBB4-AC3A-4F25-B92C-94B0737F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CEF44-C6D0-466A-A3DD-CBAC4168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581763-CCDB-4501-BEA3-323F2E9D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D9AAD-E4BD-444C-AB08-B3E57803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DEC0D1-BF1C-44A7-A018-13E11759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13FE88-354A-410B-AB79-14951DFF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18138F-17E7-4231-BC3C-09E01395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D3BDD-18F8-423A-951E-ACE76EF2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7BB-F4FD-4197-8B63-E3326BF6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D58DB-ADB8-4CA8-92F8-7017274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167DB8-D79E-4962-AAC4-1CC3BFAC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D588F3-9170-4B0F-96E4-CC733C01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764F03-2F69-4CBC-B4F8-B2F6B49C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F9ED39-FC07-4047-9D7C-987D94A0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699ED-1F9E-43CA-AE52-F7FC456D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26961A-CF36-496D-AACE-4EF8BE93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CFB261-5D03-4B1C-8E5B-79EE5D8D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4FC724-1F26-4B49-95B9-490E7BAB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B68C62-4D11-4093-85EC-7FC3A103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496-0EE6-4F83-9FA9-F3D5A8C8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4D0754-06A2-4FB7-A362-3984B55D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1CAC7-600A-4E3C-8CDC-BA1CF510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158CA1-CD47-4130-9559-F6529D4B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716BA6-8776-4C62-AF59-356351E9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4D237-5E08-4F0E-BB54-CB548256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2A539C-69C5-4434-89E5-E11D4ED3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8CCB7-869A-4684-AFD6-226BE721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8CBC90-5DF1-4EAA-9395-12AEE6B4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DB5FD3-5712-41A1-833E-9ECEA1E2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9A0DDA-AC56-45BF-936F-CAEBF404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B3E-BB46-4C5F-B20E-4141ADBD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EA4B6B-0345-4022-9D0D-14C286C3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78E616-3EB3-4852-9582-263B8BC9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325E0E-0813-4357-B0F0-8998CDA7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888DEE-3DA0-44AB-96F3-F9894C76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6EFD0C-2D94-4245-96B8-97538665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C24250-1122-4698-B194-1149F57A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87407-F624-4D30-BC0E-A0951674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032624-FDE6-4007-A3B7-81A104D8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BB99A2-A496-4811-A1E8-83C2D8EF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A714FE-4EF2-474D-B309-50595D7A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2E6-21F0-4E22-BB1C-156DBD13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D15517-3485-4BA4-B9D1-2F9C00ED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7AC22C-74A1-429C-8DAD-14E51FFB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54F097-79CA-4051-A638-33965D02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96BD53-2060-47E5-9555-62E7492A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F9D66B-FD10-47A8-A2D9-ED02735B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F4A209-B24A-47E1-AA8A-1EC71476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E3CED-255B-4693-AAE1-7B45078D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C72ACC-FDF1-4456-9009-D9C8E3A8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D9278B-1138-4E2A-B8B5-C3D1D77D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2CF3C4-094C-40B3-B136-405AF310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768-13FA-4C78-B752-4F9E0743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334280-DC4C-47CE-A747-26F91829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8FD102-4552-4912-9688-85CDFEF8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C21AFC-84DA-4D18-9535-26E66C35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587F54-A766-4BD2-A936-75441ADA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A3FDD1-4139-49E7-800F-255F3C0C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BB72A2-A80D-4A31-863D-4D9118DE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29ECA9-1919-4129-8F6A-6F800046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D235EC-C4C3-4BDA-B6C4-0483EFF9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25DEA9-D086-448A-A4C0-6801B24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561C0E-4AFE-4193-ACDC-348D6971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DC8-AFDB-4C77-901B-EECBEDE0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B6A109-9229-468F-BD55-5CEA15CD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DEABCD-97CD-47DB-9300-727887B1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D563BB-1D4E-4747-AEBD-DD21A84D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98A422-88CC-4C37-8974-3F71304C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4D5752-B736-492A-80B6-305FEBC5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09F350-0189-4CF2-9D63-B6427DC2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29EEAA-89B8-4755-B1D3-C34C6BAC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D05667-E9AB-4ED2-AD86-5467E306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B8A16D-E632-46C4-A17B-8BBDC57F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9B07AB-83A8-40E0-ACCA-1CAAA886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3E0-3A23-4D19-BA8E-0A5C416B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DC9B5A-7FA7-42C9-8169-13423F7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123205-0D2A-4ADD-9129-0B64A554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C5FDA3-5755-46A8-BF37-BD6131F5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4C3DE0-9B6A-41C4-AD54-83C87FDC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51AAFA-7433-4F79-ACDB-86A5AA30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AE858F-1661-4698-ABD4-1C428844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FDD0A3-F001-4F3D-998C-23B23446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7CD4AE-4B33-4415-962D-1ED2B640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10F9A5-4BD3-4D63-8988-27DB47D9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9650F3-3766-4626-9BE2-BFE7BD34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020-98FB-450F-B135-D2F54330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D624E8-FB3B-4D95-96C9-A8BF5623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BC5F81-8A6E-435D-A9F7-49DB4702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8362CD-F9D5-4967-882D-870DDA58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18ADEB-9E25-4321-AF6A-A567D0D7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4BF85B-5169-41EE-B913-9F4E9199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8B87C5-1479-442F-86C6-B2761EDD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5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0BCCC9-5996-4874-90E4-3D1690F8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AE1-ACEF-4AAB-AF63-66784E1E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D20-668E-47ED-A8E9-59BB2111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418-A9B4-4C18-B772-22000711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3A2A-7D76-413E-8F0E-27B71B08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BBEB-5A1C-45BD-8C0A-7F1C9169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C478-8DFE-4043-81C8-89F45824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F274-D353-417A-A504-29EAE69E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9F2C-43F2-4741-9F68-EFD8221D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CD66-0524-4E0A-A38B-303B7728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B500-DBFD-4F45-89C1-80CA869A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D9E4-85FC-4ADF-88FD-D5881369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9163-3AB7-4149-9865-2CE9E8C6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D8F5-D714-4FBB-9EFE-166547A5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D9FC-2A59-45C0-ADDE-4EB67744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13AA-81BB-4FBB-A6D0-FAA6C7BB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EAA8A-A6A8-4B0D-A0BF-7121C7A6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794AA-9E9D-4E6C-8985-08FDF58D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F006-6A3F-416F-879B-BED96B69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0775-7DEF-4383-97BB-987D374B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305E-BAD1-4EC8-8C13-D8799202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689CD-7441-44D3-B7E1-C21962F6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8172F-D252-4F1D-B950-29A8C20F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DB3F8-7D30-4226-BCF6-254FC860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34659-79BE-456E-B39C-038EF50B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F2ECA-679D-48E6-B5F5-2BB91A65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D437-2057-4D49-A29D-CC880738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17591-8DDE-4EC7-9C00-5FB613FE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AA7F1-ADB0-4688-9FC1-B666E697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2B065-5B72-4B99-97D8-6C1FA85E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EEB3-D6E8-4706-B660-A5A37BFA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91E78-4236-4B14-944A-18615E83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893BF-4D50-4F9C-820F-A3D0B955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9002F-55C2-4FA3-9AA7-51F7AE18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C74BE-C053-44FD-873F-21006898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41D56-E5FB-4950-ACA2-F94B7EB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C81EB-CF8E-480A-B53B-1210E279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0F909-9AB4-4C43-B131-359E6479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DD524-35E9-4CC8-9A57-589E9421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7ACA4-A27B-441C-9D4F-ED2812AF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17E31-1375-487D-9903-475136F6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C6EE9-58C7-46F4-A9F8-9E3354CD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BBDA8-4E9F-4AE7-9A60-8AC4C7D9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92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95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98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926D-4D0A-4BE5-8605-6190913D7EF3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8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0FA5-B837-42B8-9100-ECCAE3CBED55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Прямая соединительная линия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42" name="Прямая соединительная линия 10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3799-5411-484D-9C6A-8694A2AE2CE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E1A7-7C2B-4196-84CA-94C83575BE30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86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8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9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3876-F219-43E4-9649-B931ECCBEA30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4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rPr>
              <a:t>Эффективное управление временем и ресурсами.                                                                                            </a:t>
            </a:r>
            <a:fld id="{2273A86D-35A1-4553-AB2F-B145C513E9DB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15F7-B4C9-4247-BF07-5599ECEC0FF5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27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4183-4F57-4788-8320-EB0773836EB9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Прямая соединительная линия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77" name="Прямая соединительная линия 7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9076-B9A1-4124-8119-414094AA6E92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0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CC1C-4683-4489-89B1-7D54E72D86AD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488F-63EC-45BD-9ED4-0D83BA431960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89B3-EE16-4571-A94B-68B4AF73F36B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62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65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68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D145-87A6-4F4B-970D-B0353A47F673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6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6C67-BD86-4508-95A8-8A12A728DC81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725D-3644-45E9-80E6-9797A519D7DB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39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5B60-1499-451A-975A-22F6D3D69D71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Прямая соединительная линия 6"/>
          <p:cNvGrpSpPr/>
          <p:nvPr/>
        </p:nvGrpSpPr>
        <p:grpSpPr>
          <a:xfrm>
            <a:off x="512640" y="4029120"/>
            <a:ext cx="8631360" cy="12600"/>
            <a:chOff x="512640" y="4029120"/>
            <a:chExt cx="8631360" cy="12600"/>
          </a:xfrm>
        </p:grpSpPr>
        <p:pic>
          <p:nvPicPr>
            <p:cNvPr id="75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402912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514440" y="4035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77FA-D5DB-4F0B-B105-44FDC7229461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4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CEAF-EA92-4CD5-AF59-073DC70D7C11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9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0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80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AA33-4713-4A9C-A8A7-A7C3125718B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4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45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C7F8-87C9-473C-B16C-34E569B6C4E1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Прямая соединительная линия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84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4FEA-41B7-4E23-92EF-D35EB2EA81A0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48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3C2C-293E-4AE3-9F4A-AA731069F79D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9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9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89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DA14-7AEE-4BD5-97F3-FDE44C5B0DD0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51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E549-1EC7-43AD-A869-FBAA6982ADF7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0" name="Прямая соединительная линия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941" name="Прямая соединительная линия 10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ED7A-7399-4382-A0F1-164A2901BF5A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139B-B72F-4CE1-AEDC-A81F2EABEB65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9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1B2E-D471-4E08-AD58-E48E963B80C1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57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Эффективное управление временем и ресурсами.                                                                                            </a:t>
            </a:r>
            <a:fld id="{9A5A126E-DC08-4188-A1D7-2880B7CD4613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CE75-B750-4FB7-BE52-F7EC30481BFE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60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390E-0B2A-4F33-9287-0C92AA730439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Прямая соединительная линия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076" name="Прямая соединительная линия 7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6B90-2216-476A-880E-DAF7BB405C83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6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6E2F-4F7B-41C8-BD22-DDDBE0CB9257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751C-5041-4648-9A97-4D72C6F6BC6D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6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66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E04E-3F32-48EF-94F3-F18F6DDB6782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16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16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6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5FB0-8487-45CD-9976-56F157AF978D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69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3C57-38B3-496A-AB8F-734D34B7D013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CFED-CD9D-42A6-91F0-97D7ABBD20B8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 type="sldNum" idx="72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9668-BF05-4679-BB11-409C436E07B1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8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B3F7-8148-4285-8884-59E0AE06EEEC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C252-2A03-4955-A10B-314A93793159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5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8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8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C4C1-77EB-4099-A544-2F7F24B6E494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6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A850-BBDC-4FA6-817A-C5F4651D054E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135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3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Прямая соединительная линия 6"/>
          <p:cNvGrpSpPr/>
          <p:nvPr/>
        </p:nvGrpSpPr>
        <p:grpSpPr>
          <a:xfrm>
            <a:off x="512640" y="4029120"/>
            <a:ext cx="8631360" cy="12600"/>
            <a:chOff x="512640" y="4029120"/>
            <a:chExt cx="8631360" cy="12600"/>
          </a:xfrm>
        </p:grpSpPr>
        <p:pic>
          <p:nvPicPr>
            <p:cNvPr id="2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402912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14440" y="4035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593A-ED6E-4780-A927-F11C1AA61953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E893-D62D-4AFD-9679-50D37ECF16C0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8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01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04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7CDE-7423-43DD-92E3-CD076686FD44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2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9B7F-2CD3-4B3E-94CF-A7AA5641FA7E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Прямая соединительная линия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48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4872-C1B1-4B77-8168-CF52BB5ED1E6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9429-1120-432E-B537-55B92AD16D42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Заголовок 1" descr=""/>
          <p:cNvPicPr/>
          <p:nvPr/>
        </p:nvPicPr>
        <p:blipFill>
          <a:blip r:embed="rId1"/>
          <a:stretch/>
        </p:blipFill>
        <p:spPr>
          <a:xfrm>
            <a:off x="298440" y="1700280"/>
            <a:ext cx="8626320" cy="326844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27" descr="029"/>
          <p:cNvPicPr/>
          <p:nvPr/>
        </p:nvPicPr>
        <p:blipFill>
          <a:blip r:embed="rId2"/>
          <a:stretch/>
        </p:blipFill>
        <p:spPr>
          <a:xfrm>
            <a:off x="8101080" y="6093000"/>
            <a:ext cx="920520" cy="549000"/>
          </a:xfrm>
          <a:prstGeom prst="rect">
            <a:avLst/>
          </a:prstGeom>
          <a:ln w="0">
            <a:noFill/>
          </a:ln>
        </p:spPr>
      </p:pic>
      <p:sp>
        <p:nvSpPr>
          <p:cNvPr id="1260" name="Текст 2"/>
          <p:cNvSpPr/>
          <p:nvPr/>
        </p:nvSpPr>
        <p:spPr>
          <a:xfrm>
            <a:off x="755640" y="5322960"/>
            <a:ext cx="799308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2a"/>
                </a:solidFill>
                <a:latin typeface="Cambria"/>
              </a:rPr>
              <a:t>Нарожняя Татьяна Михайл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2a"/>
                </a:solidFill>
                <a:latin typeface="Cambria"/>
              </a:rPr>
              <a:t>заместитель директора МБУ НМ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0492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13" name="TextBox 5"/>
          <p:cNvSpPr/>
          <p:nvPr/>
        </p:nvSpPr>
        <p:spPr>
          <a:xfrm>
            <a:off x="826920" y="1533600"/>
            <a:ext cx="770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Тезисное описание измененных параметров и ситу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в соответствующей области после окончания проек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желательно дополнительное размещение изображений, графиков и табл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Номер слайда 3"/>
          <p:cNvSpPr/>
          <p:nvPr/>
        </p:nvSpPr>
        <p:spPr>
          <a:xfrm>
            <a:off x="8532720" y="6429240"/>
            <a:ext cx="459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2D5E-281C-480D-B393-DE2F66B9F1C5}" type="slidenum">
              <a:rPr b="1" lang="ru-RU" sz="1400" spc="-1" strike="noStrike">
                <a:solidFill>
                  <a:srgbClr val="23263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04920" y="430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1316" name=""/>
          <p:cNvGraphicFramePr/>
          <p:nvPr/>
        </p:nvGraphicFramePr>
        <p:xfrm>
          <a:off x="162000" y="1224000"/>
          <a:ext cx="8731080" cy="4770360"/>
        </p:xfrm>
        <a:graphic>
          <a:graphicData uri="http://schemas.openxmlformats.org/drawingml/2006/table">
            <a:tbl>
              <a:tblPr/>
              <a:tblGrid>
                <a:gridCol w="374400"/>
                <a:gridCol w="2476800"/>
                <a:gridCol w="695160"/>
                <a:gridCol w="806400"/>
                <a:gridCol w="820800"/>
                <a:gridCol w="222120"/>
                <a:gridCol w="222480"/>
                <a:gridCol w="222120"/>
                <a:gridCol w="222480"/>
                <a:gridCol w="222120"/>
                <a:gridCol w="222120"/>
                <a:gridCol w="222480"/>
                <a:gridCol w="222120"/>
                <a:gridCol w="222120"/>
                <a:gridCol w="222480"/>
                <a:gridCol w="223560"/>
                <a:gridCol w="222480"/>
                <a:gridCol w="222120"/>
                <a:gridCol w="222480"/>
                <a:gridCol w="222120"/>
                <a:gridCol w="222120"/>
              </a:tblGrid>
              <a:tr h="2743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Длительность,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ча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конча 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61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sp>
        <p:nvSpPr>
          <p:cNvPr id="1317" name="TextBox 4"/>
          <p:cNvSpPr/>
          <p:nvPr/>
        </p:nvSpPr>
        <p:spPr>
          <a:xfrm>
            <a:off x="250920" y="6458040"/>
            <a:ext cx="77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baseline="30000">
                <a:solidFill>
                  <a:srgbClr val="000000"/>
                </a:solidFill>
                <a:latin typeface="Franklin Gothic Book"/>
                <a:ea typeface="Arial"/>
              </a:rPr>
              <a:t>*</a:t>
            </a:r>
            <a:r>
              <a:rPr b="0" i="1" lang="ru-RU" sz="1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завершенные блоки работ  закрашиваются зеленым цв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Номер слайда 3"/>
          <p:cNvSpPr/>
          <p:nvPr/>
        </p:nvSpPr>
        <p:spPr>
          <a:xfrm>
            <a:off x="8459640" y="6429240"/>
            <a:ext cx="532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07E8-70E1-4CF0-92E4-2D0C978EA86D}" type="slidenum">
              <a:rPr b="1" lang="ru-RU" sz="1400" spc="-1" strike="noStrike">
                <a:solidFill>
                  <a:srgbClr val="23263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5630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БЮДЖЕ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108000" y="1268280"/>
          <a:ext cx="8856720" cy="5119920"/>
        </p:xfrm>
        <a:graphic>
          <a:graphicData uri="http://schemas.openxmlformats.org/drawingml/2006/table">
            <a:tbl>
              <a:tblPr/>
              <a:tblGrid>
                <a:gridCol w="393480"/>
                <a:gridCol w="3071880"/>
                <a:gridCol w="897120"/>
                <a:gridCol w="836640"/>
                <a:gridCol w="707760"/>
                <a:gridCol w="714600"/>
                <a:gridCol w="833400"/>
                <a:gridCol w="754200"/>
                <a:gridCol w="647640"/>
              </a:tblGrid>
              <a:tr h="45684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Бюджет проекта,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Вне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федераль-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бласт- 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ест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хоз. субъ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аем- ные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Указываются наименования основных блоков работ проекта,  (в соответствии  с предыдущем слайдо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Номер слайда 3"/>
          <p:cNvSpPr/>
          <p:nvPr/>
        </p:nvSpPr>
        <p:spPr>
          <a:xfrm>
            <a:off x="8532720" y="6429240"/>
            <a:ext cx="459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C814-B437-4638-BD16-3CE2FB3DF21C}" type="slidenum">
              <a:rPr b="1" lang="ru-RU" sz="1400" spc="-1" strike="noStrike">
                <a:solidFill>
                  <a:srgbClr val="23263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301680" y="42660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КОМАНДА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1323" name=""/>
          <p:cNvGraphicFramePr/>
          <p:nvPr/>
        </p:nvGraphicFramePr>
        <p:xfrm>
          <a:off x="250920" y="1197000"/>
          <a:ext cx="8713800" cy="2835360"/>
        </p:xfrm>
        <a:graphic>
          <a:graphicData uri="http://schemas.openxmlformats.org/drawingml/2006/table">
            <a:tbl>
              <a:tblPr/>
              <a:tblGrid>
                <a:gridCol w="428400"/>
                <a:gridCol w="2571840"/>
                <a:gridCol w="2857680"/>
                <a:gridCol w="285588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Должность и основное место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Выполняемые в проект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Куратор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уководитель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Администратор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ператор мониторинг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4" name="Номер слайда 3"/>
          <p:cNvSpPr/>
          <p:nvPr/>
        </p:nvSpPr>
        <p:spPr>
          <a:xfrm>
            <a:off x="8532720" y="6429240"/>
            <a:ext cx="459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006F-9A64-40CC-BE24-606508481E72}" type="slidenum">
              <a:rPr b="1" lang="ru-RU" sz="1400" spc="-1" strike="noStrike">
                <a:solidFill>
                  <a:srgbClr val="23263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4920" y="985320"/>
            <a:ext cx="8381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2a"/>
                </a:solidFill>
                <a:latin typeface="Cambria"/>
              </a:rPr>
              <a:t>Определение понятия «проек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569440" cy="47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2a"/>
                </a:solidFill>
                <a:latin typeface="Cambria"/>
              </a:rPr>
              <a:t>Понятие «проект» </a:t>
            </a:r>
            <a:r>
              <a:rPr b="0" lang="ru-RU" sz="2400" spc="-1" strike="noStrike">
                <a:solidFill>
                  <a:srgbClr val="00002a"/>
                </a:solidFill>
                <a:latin typeface="Cambria"/>
              </a:rPr>
              <a:t>обозначает комплекс взаимосвязанных мероприятий, предназначенных для достижения, в течение заданного периода времени и при установленном бюджете, поставленных задач с четко определенными целям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2a"/>
                </a:solidFill>
                <a:latin typeface="Cambria"/>
              </a:rPr>
              <a:t>Проект</a:t>
            </a:r>
            <a:r>
              <a:rPr b="0" lang="ru-RU" sz="2400" spc="-1" strike="noStrike">
                <a:solidFill>
                  <a:srgbClr val="00002a"/>
                </a:solidFill>
                <a:latin typeface="Cambria"/>
              </a:rPr>
              <a:t> – целенаправленное ограниченное во времени мероприятие, направленное на</a:t>
            </a:r>
            <a:r>
              <a:rPr b="0" lang="en-US" sz="2400" spc="-1" strike="noStrike">
                <a:solidFill>
                  <a:srgbClr val="00002a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2a"/>
                </a:solidFill>
                <a:latin typeface="Cambria"/>
              </a:rPr>
              <a:t>создание продукта или услу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2a"/>
                </a:solidFill>
                <a:latin typeface="Cambria"/>
              </a:rPr>
              <a:t>Проект</a:t>
            </a:r>
            <a:r>
              <a:rPr b="0" lang="ru-RU" sz="2400" spc="-1" strike="noStrike">
                <a:solidFill>
                  <a:srgbClr val="00002a"/>
                </a:solidFill>
                <a:latin typeface="Cambria"/>
              </a:rPr>
              <a:t> – комплекс взаимосвязанных работ, направленных на достижение запланированной цели и имеющих однократный, неповторяющийся характ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3" name="Picture 27" descr="029"/>
          <p:cNvPicPr/>
          <p:nvPr/>
        </p:nvPicPr>
        <p:blipFill>
          <a:blip r:embed="rId4"/>
          <a:stretch/>
        </p:blipFill>
        <p:spPr>
          <a:xfrm>
            <a:off x="8101080" y="6093000"/>
            <a:ext cx="920520" cy="54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381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2a"/>
                </a:solidFill>
                <a:latin typeface="Cambria"/>
              </a:rPr>
              <a:t>Основные ограничения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5" name="Таблица 4"/>
          <p:cNvGraphicFramePr/>
          <p:nvPr/>
        </p:nvGraphicFramePr>
        <p:xfrm>
          <a:off x="1187280" y="1413000"/>
          <a:ext cx="688032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6" name="Таблиц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88032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7" name="Picture 27" descr="029"/>
          <p:cNvPicPr/>
          <p:nvPr/>
        </p:nvPicPr>
        <p:blipFill>
          <a:blip r:embed="rId3"/>
          <a:stretch/>
        </p:blipFill>
        <p:spPr>
          <a:xfrm>
            <a:off x="8101080" y="6093000"/>
            <a:ext cx="920520" cy="54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ambria"/>
              </a:rPr>
              <a:t>Текущая и проектная деятельность в организац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9" name="Объект 3" descr=""/>
          <p:cNvPicPr/>
          <p:nvPr/>
        </p:nvPicPr>
        <p:blipFill>
          <a:blip r:embed="rId1"/>
          <a:stretch/>
        </p:blipFill>
        <p:spPr>
          <a:xfrm>
            <a:off x="-182520" y="858960"/>
            <a:ext cx="9326520" cy="5833800"/>
          </a:xfrm>
          <a:prstGeom prst="rect">
            <a:avLst/>
          </a:prstGeom>
          <a:ln w="0">
            <a:noFill/>
          </a:ln>
        </p:spPr>
      </p:pic>
      <p:pic>
        <p:nvPicPr>
          <p:cNvPr id="1270" name="Прямоугольник 4" descr=""/>
          <p:cNvPicPr/>
          <p:nvPr/>
        </p:nvPicPr>
        <p:blipFill>
          <a:blip r:embed="rId2"/>
          <a:stretch/>
        </p:blipFill>
        <p:spPr>
          <a:xfrm>
            <a:off x="6413400" y="1122480"/>
            <a:ext cx="4114800" cy="471780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2" descr=""/>
          <p:cNvPicPr/>
          <p:nvPr/>
        </p:nvPicPr>
        <p:blipFill>
          <a:blip r:embed="rId3"/>
          <a:stretch/>
        </p:blipFill>
        <p:spPr>
          <a:xfrm>
            <a:off x="0" y="2133720"/>
            <a:ext cx="1373040" cy="136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72" name="Picture 27" descr="029"/>
          <p:cNvPicPr/>
          <p:nvPr/>
        </p:nvPicPr>
        <p:blipFill>
          <a:blip r:embed="rId4"/>
          <a:stretch/>
        </p:blipFill>
        <p:spPr>
          <a:xfrm>
            <a:off x="8101080" y="6093000"/>
            <a:ext cx="920520" cy="54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Скругленный прямоугольник 4"/>
          <p:cNvSpPr/>
          <p:nvPr/>
        </p:nvSpPr>
        <p:spPr>
          <a:xfrm>
            <a:off x="3105000" y="2432160"/>
            <a:ext cx="2352960" cy="2817720"/>
          </a:xfrm>
          <a:custGeom>
            <a:avLst/>
            <a:gdLst>
              <a:gd name="textAreaLeft" fmla="*/ 114840 w 2352960"/>
              <a:gd name="textAreaRight" fmla="*/ 2238120 w 2352960"/>
              <a:gd name="textAreaTop" fmla="*/ 114840 h 2817720"/>
              <a:gd name="textAreaBottom" fmla="*/ 2702880 h 2817720"/>
            </a:gdLst>
            <a:ahLst/>
            <a:rect l="textAreaLeft" t="textAreaTop" r="textAreaRight" b="textAreaBottom"/>
            <a:pathLst>
              <a:path w="21600" h="25866">
                <a:moveTo>
                  <a:pt x="3600" y="0"/>
                </a:moveTo>
                <a:arcTo wR="3600" hR="3600" stAng="16200000" swAng="-5400000"/>
                <a:lnTo>
                  <a:pt x="0" y="22266"/>
                </a:lnTo>
                <a:arcTo wR="3600" hR="3600" stAng="10800000" swAng="-5400000"/>
                <a:lnTo>
                  <a:pt x="18000" y="258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ИТОРИН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33200" y="727200"/>
            <a:ext cx="86868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ЦЕССЫ УПРАВЛЕНИЯ ПРОЕК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Номер слайда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2542-FB58-4F18-ADFE-622E2CAEB52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Скругленный прямоугольник 2"/>
          <p:cNvSpPr/>
          <p:nvPr/>
        </p:nvSpPr>
        <p:spPr>
          <a:xfrm>
            <a:off x="3311640" y="1558800"/>
            <a:ext cx="195084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de7c3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ИЦИАЦИЯ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Скругленный прямоугольник 60"/>
          <p:cNvSpPr/>
          <p:nvPr/>
        </p:nvSpPr>
        <p:spPr>
          <a:xfrm>
            <a:off x="3311640" y="2832120"/>
            <a:ext cx="1950840" cy="64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de7c3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АНИРОВАНИ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Скругленный прямоугольник 62"/>
          <p:cNvSpPr/>
          <p:nvPr/>
        </p:nvSpPr>
        <p:spPr>
          <a:xfrm>
            <a:off x="3322800" y="4152960"/>
            <a:ext cx="1949400" cy="64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de7c3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ЛИЗАЦИЯ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Скругленный прямоугольник 63"/>
          <p:cNvSpPr/>
          <p:nvPr/>
        </p:nvSpPr>
        <p:spPr>
          <a:xfrm>
            <a:off x="3292560" y="5518080"/>
            <a:ext cx="1969920" cy="64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de7c3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РЫТИ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Прямоугольник с двумя скругленными противолежащими углами 3"/>
          <p:cNvSpPr/>
          <p:nvPr/>
        </p:nvSpPr>
        <p:spPr>
          <a:xfrm>
            <a:off x="882720" y="1136520"/>
            <a:ext cx="1584360" cy="505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ициативная зая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Прямоугольник с двумя скругленными противолежащими углами 67"/>
          <p:cNvSpPr/>
          <p:nvPr/>
        </p:nvSpPr>
        <p:spPr>
          <a:xfrm>
            <a:off x="1033560" y="3306600"/>
            <a:ext cx="1584360" cy="7146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н управления проек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Прямоугольник с двумя скругленными противолежащими углами 66"/>
          <p:cNvSpPr/>
          <p:nvPr/>
        </p:nvSpPr>
        <p:spPr>
          <a:xfrm>
            <a:off x="90360" y="2066760"/>
            <a:ext cx="1584360" cy="7290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е экспертной коми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Прямоугольник с двумя скругленными противолежащими углами 64"/>
          <p:cNvSpPr/>
          <p:nvPr/>
        </p:nvSpPr>
        <p:spPr>
          <a:xfrm>
            <a:off x="1468440" y="2365200"/>
            <a:ext cx="1584360" cy="5335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аспорт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Прямоугольник с двумя скругленными противолежащими углами 70"/>
          <p:cNvSpPr/>
          <p:nvPr/>
        </p:nvSpPr>
        <p:spPr>
          <a:xfrm>
            <a:off x="90360" y="4865760"/>
            <a:ext cx="1584360" cy="53496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Прямоугольник с двумя скругленными противолежащими углами 71"/>
          <p:cNvSpPr/>
          <p:nvPr/>
        </p:nvSpPr>
        <p:spPr>
          <a:xfrm>
            <a:off x="1521000" y="4983120"/>
            <a:ext cx="1584000" cy="53496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Выноска 1 (с границей) 7"/>
          <p:cNvSpPr/>
          <p:nvPr/>
        </p:nvSpPr>
        <p:spPr>
          <a:xfrm>
            <a:off x="5867280" y="1335240"/>
            <a:ext cx="3168720" cy="109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71" y="10773"/>
                </a:moveTo>
                <a:lnTo>
                  <a:pt x="-1701" y="10700"/>
                </a:lnTo>
              </a:path>
              <a:path w="21600" h="21600">
                <a:moveTo>
                  <a:pt x="-1701" y="0"/>
                </a:moveTo>
                <a:lnTo>
                  <a:pt x="-1701" y="21600"/>
                </a:lnTo>
              </a:path>
            </a:pathLst>
          </a:custGeom>
          <a:solidFill>
            <a:srgbClr val="d3ecf2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ределение цели, экспертиза проекта, назначение группы управления проектом, утверждение паспорта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Выноска 1 (с границей) 73"/>
          <p:cNvSpPr/>
          <p:nvPr/>
        </p:nvSpPr>
        <p:spPr>
          <a:xfrm>
            <a:off x="5867280" y="2801880"/>
            <a:ext cx="3168720" cy="70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72" y="10279"/>
                </a:moveTo>
                <a:lnTo>
                  <a:pt x="-1800" y="1028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d3ecf2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иск, анализ, выбор, проработка и уточнение путей достижения цели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Выноска 1 (с границей) 74"/>
          <p:cNvSpPr/>
          <p:nvPr/>
        </p:nvSpPr>
        <p:spPr>
          <a:xfrm>
            <a:off x="5867280" y="4152960"/>
            <a:ext cx="3168720" cy="70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72" y="10279"/>
                </a:moveTo>
                <a:lnTo>
                  <a:pt x="-1800" y="1028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d3ecf2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ение работ, контроль и корректир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Выноска 1 (с границей) 75"/>
          <p:cNvSpPr/>
          <p:nvPr/>
        </p:nvSpPr>
        <p:spPr>
          <a:xfrm>
            <a:off x="5845320" y="5133960"/>
            <a:ext cx="3166920" cy="142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72" y="10279"/>
                </a:moveTo>
                <a:lnTo>
                  <a:pt x="-1800" y="1028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d3ecf2"/>
          </a:solidFill>
          <a:ln w="2556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вершение (исполнения или оформление отказа от выполнения) обязательств, расформирование орг. структуры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0" name="Соединительная линия уступом 9"/>
          <p:cNvCxnSpPr>
            <a:stCxn id="1280" idx="9"/>
          </p:cNvCxnSpPr>
          <p:nvPr/>
        </p:nvCxnSpPr>
        <p:spPr>
          <a:xfrm flipH="1" rot="16200000">
            <a:off x="2440800" y="875160"/>
            <a:ext cx="116640" cy="164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1" name="Соединительная линия уступом 12"/>
          <p:cNvCxnSpPr>
            <a:stCxn id="1276" idx="1"/>
            <a:endCxn id="1282" idx="9"/>
          </p:cNvCxnSpPr>
          <p:nvPr/>
        </p:nvCxnSpPr>
        <p:spPr>
          <a:xfrm flipV="1" rot="10800000">
            <a:off x="882000" y="1881720"/>
            <a:ext cx="2429640" cy="184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2" name="Соединительная линия уступом 14"/>
          <p:cNvCxnSpPr>
            <a:stCxn id="1276" idx="1"/>
            <a:endCxn id="1283" idx="9"/>
          </p:cNvCxnSpPr>
          <p:nvPr/>
        </p:nvCxnSpPr>
        <p:spPr>
          <a:xfrm flipV="1" rot="10800000">
            <a:off x="2259720" y="1882440"/>
            <a:ext cx="1051920" cy="483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3" name="Соединительная линия уступом 17"/>
          <p:cNvCxnSpPr>
            <a:stCxn id="1283" idx="10"/>
          </p:cNvCxnSpPr>
          <p:nvPr/>
        </p:nvCxnSpPr>
        <p:spPr>
          <a:xfrm flipH="1" rot="16200000">
            <a:off x="2732760" y="2425320"/>
            <a:ext cx="155880" cy="1102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4" name="Соединительная линия уступом 19"/>
          <p:cNvCxnSpPr>
            <a:stCxn id="1277" idx="1"/>
            <a:endCxn id="1281" idx="9"/>
          </p:cNvCxnSpPr>
          <p:nvPr/>
        </p:nvCxnSpPr>
        <p:spPr>
          <a:xfrm flipV="1" rot="10800000">
            <a:off x="1824840" y="3155760"/>
            <a:ext cx="1486800" cy="151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5" name="Соединительная линия уступом 29"/>
          <p:cNvCxnSpPr>
            <a:stCxn id="1281" idx="10"/>
            <a:endCxn id="1278" idx="1"/>
          </p:cNvCxnSpPr>
          <p:nvPr/>
        </p:nvCxnSpPr>
        <p:spPr>
          <a:xfrm flipH="1" rot="16200000">
            <a:off x="2345400" y="3499920"/>
            <a:ext cx="456120" cy="149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6" name="Соединительная линия уступом 33"/>
          <p:cNvCxnSpPr>
            <a:endCxn id="1284" idx="9"/>
          </p:cNvCxnSpPr>
          <p:nvPr/>
        </p:nvCxnSpPr>
        <p:spPr>
          <a:xfrm flipV="1" rot="10800000">
            <a:off x="882720" y="4591440"/>
            <a:ext cx="2419560" cy="273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7" name="Соединительная линия уступом 36"/>
          <p:cNvCxnSpPr>
            <a:endCxn id="1285" idx="9"/>
          </p:cNvCxnSpPr>
          <p:nvPr/>
        </p:nvCxnSpPr>
        <p:spPr>
          <a:xfrm flipV="1" rot="10800000">
            <a:off x="2312280" y="4591440"/>
            <a:ext cx="989280" cy="391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8" name="Соединительная линия уступом 40"/>
          <p:cNvCxnSpPr>
            <a:stCxn id="1284" idx="10"/>
          </p:cNvCxnSpPr>
          <p:nvPr/>
        </p:nvCxnSpPr>
        <p:spPr>
          <a:xfrm flipH="1" rot="16200000">
            <a:off x="1928880" y="4354200"/>
            <a:ext cx="317880" cy="2410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38188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2a"/>
                </a:solidFill>
                <a:latin typeface="Cambria"/>
              </a:rPr>
              <a:t>Концепция профессионального управления прое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0" name="Схема 4" descr=""/>
          <p:cNvPicPr/>
          <p:nvPr/>
        </p:nvPicPr>
        <p:blipFill>
          <a:blip r:embed="rId1"/>
          <a:stretch/>
        </p:blipFill>
        <p:spPr>
          <a:xfrm>
            <a:off x="122400" y="1695600"/>
            <a:ext cx="8893080" cy="48765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27" descr="029"/>
          <p:cNvPicPr/>
          <p:nvPr/>
        </p:nvPicPr>
        <p:blipFill>
          <a:blip r:embed="rId2"/>
          <a:stretch/>
        </p:blipFill>
        <p:spPr>
          <a:xfrm>
            <a:off x="8101080" y="6093000"/>
            <a:ext cx="920520" cy="54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61440" y="3143160"/>
            <a:ext cx="845820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Franklin Gothic Medium"/>
              </a:rPr>
              <a:t>ПРЕЗЕНТАЦИЯ ПРОЕКТ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64646"/>
                </a:solidFill>
                <a:latin typeface="Franklin Gothic Medium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НАИМЕНОВАНИЕ ПРОЕКТА</a:t>
            </a:r>
            <a:r>
              <a:rPr b="0" lang="ru-RU" sz="2800" spc="-1" strike="noStrike">
                <a:solidFill>
                  <a:srgbClr val="464646"/>
                </a:solidFill>
                <a:latin typeface="Franklin Gothic Medium"/>
              </a:rPr>
              <a:t>»</a:t>
            </a:r>
            <a:endParaRPr b="0" lang="en-US" sz="28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380520" y="1773000"/>
            <a:ext cx="8458200" cy="74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d3d3d"/>
                </a:solidFill>
                <a:latin typeface="Franklin Gothic Book"/>
              </a:rPr>
              <a:t>Управление образования администрации города Белгорода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НАИМЕНОВАНИЕ ОБРАЗОВАТЕЛЬНОГО УЧРЕЖДЕНИЯ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04" name="TextBox 9"/>
          <p:cNvSpPr/>
          <p:nvPr/>
        </p:nvSpPr>
        <p:spPr>
          <a:xfrm>
            <a:off x="347760" y="6357960"/>
            <a:ext cx="851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Franklin Gothic Book"/>
                <a:ea typeface="Arial"/>
              </a:rPr>
              <a:t>г. Белгород, 202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Рисунок 7" descr=""/>
          <p:cNvPicPr/>
          <p:nvPr/>
        </p:nvPicPr>
        <p:blipFill>
          <a:blip r:embed="rId1"/>
          <a:stretch/>
        </p:blipFill>
        <p:spPr>
          <a:xfrm>
            <a:off x="3857760" y="285840"/>
            <a:ext cx="1143000" cy="1485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0492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ЕСТЬ»)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7" name="Номер слайда 3"/>
          <p:cNvSpPr/>
          <p:nvPr/>
        </p:nvSpPr>
        <p:spPr>
          <a:xfrm>
            <a:off x="8643960" y="6429240"/>
            <a:ext cx="347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81DC-BC05-4419-B28C-A4E540EC58BB}" type="slidenum">
              <a:rPr b="1" lang="ru-RU" sz="1400" spc="-1" strike="noStrike">
                <a:solidFill>
                  <a:srgbClr val="23263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Box 5"/>
          <p:cNvSpPr/>
          <p:nvPr/>
        </p:nvSpPr>
        <p:spPr>
          <a:xfrm>
            <a:off x="682560" y="191628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Тезисное описание ситу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и параметров в соответствующей области до начала реализации проекта, желательно дополнительное размещение изображений, графиков и табл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Обозначение проблемы, на решение которой направлен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301680" y="404640"/>
            <a:ext cx="86868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ЦЕЛЬ И РЕЗУЛЬТА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1310" name=""/>
          <p:cNvGraphicFramePr/>
          <p:nvPr/>
        </p:nvGraphicFramePr>
        <p:xfrm>
          <a:off x="179280" y="1262160"/>
          <a:ext cx="8888400" cy="4572000"/>
        </p:xfrm>
        <a:graphic>
          <a:graphicData uri="http://schemas.openxmlformats.org/drawingml/2006/table">
            <a:tbl>
              <a:tblPr/>
              <a:tblGrid>
                <a:gridCol w="2016360"/>
                <a:gridCol w="6872040"/>
              </a:tblGrid>
              <a:tr h="100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Цель проекта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здать материально-технические условия для оздоровления, проведения соревнований, организации учебно-тренировочного процесса не менее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ZZ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тыс. чел. к декабрю 202Х года на территории города Бел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пособ достижения цели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ведение реконструкции и ремонта спортивных стадионов и площадок город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езультат проект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еконструировано и отремонтировано не менее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YY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портивных объектов города Белгород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ребования к результату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азработана проектно-сметная документация для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спортивных объ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существлена укладка покрытия на не менее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D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спортивных объ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тремонтировано покрытие не менее А спортивных объ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становлено ограждение на не менее Е спортивных объ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тремонтировано ограждение не менее В спортивных объ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тремонтированы беговые дорожки не менее С спортивных объ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снащено спортивно-технологическим оборудованием не менее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портивных объ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ивлечено не менее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ZZZ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тыс. руб. инвестиционных средст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льзователи результата проекта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Жители города Белгород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1" name="Номер слайда 3"/>
          <p:cNvSpPr/>
          <p:nvPr/>
        </p:nvSpPr>
        <p:spPr>
          <a:xfrm>
            <a:off x="8643960" y="6429240"/>
            <a:ext cx="347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6043-043D-4087-80F0-F80A81D44467}" type="slidenum">
              <a:rPr b="1" lang="ru-RU" sz="1400" spc="-1" strike="noStrike">
                <a:solidFill>
                  <a:srgbClr val="23263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8:44:45Z</dcterms:created>
  <dc:creator>kazak</dc:creator>
  <dc:description/>
  <dc:language>en-US</dc:language>
  <cp:lastModifiedBy>Татьяна Михайловна Нарожняя</cp:lastModifiedBy>
  <cp:lastPrinted>2020-03-12T10:21:04Z</cp:lastPrinted>
  <dcterms:modified xsi:type="dcterms:W3CDTF">2021-11-12T09:28:12Z</dcterms:modified>
  <cp:revision>36</cp:revision>
  <dc:subject/>
  <dc:title>Заголовок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7869990</vt:lpwstr>
  </property>
</Properties>
</file>